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C26-F814-4ED2-82C2-68C34B0C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C72-7559-4464-9DB5-A22DA33F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596-1676-43DB-9A95-E60BDC5E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DD6-FE1E-4993-99D2-ED679EEA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920-22C7-4799-97EC-8FE1E411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1DD-F489-4767-8E8E-A2C3A849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12D-FA16-4AF4-BEE8-AA4BA0C7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023-47B1-4AC4-BA2B-84BEC76A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FD1-8066-4C43-BD5A-894F9930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16A-2AAD-45EF-B691-30B568CF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5AE-66E8-4225-97EB-2CD3090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A0F-25E9-40AA-85EF-AEA8940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B864-D390-4647-90B8-85CCBBA49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4388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Богатыри в русской литератур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емёнова  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Ресур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Богаты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Чем знамениты русские богатыр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Герои бы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Кто такой богатыр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ово "богатырь" в русском языке восточного (тюркского) происхожд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юркское происхождение слова «богатырь» впервые встречается в Ипатьевской летописи. Характерно, что изначально, в древности, для понятия «богатырь» использовалось слово «хоробр», которое со временем переросло в эпитет «храбрый».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гатырь – герой русских былин, совершающий воинские подвиги; человек безмерной силы, стойкости и отва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гатырь – патриот, защитник земли русской. Главное, что им движет - желание постоять за людей и ве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F:\всяк\25.jpg"/>
          <p:cNvPicPr/>
          <p:nvPr/>
        </p:nvPicPr>
        <p:blipFill>
          <a:blip r:embed="rId1"/>
          <a:stretch/>
        </p:blipFill>
        <p:spPr>
          <a:xfrm>
            <a:off x="1714680" y="3714840"/>
            <a:ext cx="47624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которые учёные старой мифологической школы делили богатырей н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718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«Старши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того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ку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г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хма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н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25718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«Младши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ья Муромец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ёша Попович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ыня Никитич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5"/>
          <p:cNvCxnSpPr/>
          <p:nvPr/>
        </p:nvCxnSpPr>
        <p:spPr>
          <a:xfrm flipH="1">
            <a:off x="2214360" y="1928880"/>
            <a:ext cx="35784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8"/>
          <p:cNvCxnSpPr/>
          <p:nvPr/>
        </p:nvCxnSpPr>
        <p:spPr>
          <a:xfrm>
            <a:off x="6428160" y="1928880"/>
            <a:ext cx="35820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214200"/>
            <a:ext cx="8400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гатыри являются главными героями был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ин написано много. Вот некоторые из н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ольга Всеславьевич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икула Селянинович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вятогор – богатыр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о Добрыню Никитича и Змея Горыныч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лья Муромец и Соловей – Разбойник»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ждому богатырю присуща определенная, доминирующая черта характе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лья Муромец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ицетворяет силу, эт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ый мощн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й богатырь после Святого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ы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оже сильный и храбрый воин, змееборец, но еще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гатырь-диплома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Его князь Владимир отправляет с особыми дипломатическими поручен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еша Попович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ицетворя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мекалку и хитр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Богатыри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рыня, Дубыня, Усыня, Святогор, Никита Кожемякин, Вольга Всеславьевич, Микула Селянинович, Алёша Попович, Добрыня Никитич, Илья Муромец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F:\картинки\vasnetsov0048.jpg"/>
          <p:cNvPicPr/>
          <p:nvPr/>
        </p:nvPicPr>
        <p:blipFill>
          <a:blip r:embed="rId1"/>
          <a:stretch/>
        </p:blipFill>
        <p:spPr>
          <a:xfrm>
            <a:off x="428760" y="214200"/>
            <a:ext cx="4357440" cy="341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F:\картинки\volot.jpg"/>
          <p:cNvPicPr/>
          <p:nvPr/>
        </p:nvPicPr>
        <p:blipFill>
          <a:blip r:embed="rId2"/>
          <a:stretch/>
        </p:blipFill>
        <p:spPr>
          <a:xfrm>
            <a:off x="5500800" y="2286000"/>
            <a:ext cx="2539800" cy="406404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назад 5"/>
          <p:cNvSpPr/>
          <p:nvPr/>
        </p:nvSpPr>
        <p:spPr>
          <a:xfrm>
            <a:off x="8429760" y="64292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ак, изучив данную тему можно сделать вывод, ч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огатыр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сильный, смелый человек. Он воплощает идеал мужественного, преданного родине и народу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7:27:45Z</dcterms:created>
  <dc:creator>GYPNORION</dc:creator>
  <dc:description/>
  <dc:language>en-US</dc:language>
  <cp:lastModifiedBy>GYPNORION</cp:lastModifiedBy>
  <dcterms:modified xsi:type="dcterms:W3CDTF">2011-05-24T17:33:39Z</dcterms:modified>
  <cp:revision>27</cp:revision>
  <dc:subject/>
  <dc:title>Слайд 1</dc:title>
</cp:coreProperties>
</file>